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B160-02CF-4322-A7FE-3ADDC6C9D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s of street lights, solar lantern shs et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s of street lights, solar lantern shs et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325-CBF7-4413-9756-62A7D58D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84D-87DB-4BF8-8A29-C828F04D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06D-21BF-44C4-A113-D191AD55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5E9-867E-4C0F-A06D-79BE93AB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387-98C0-4FE8-AF76-4B1A58B2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8B5-4CF8-41CD-85CD-110B6B4E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AEB-FB00-4B60-842D-AB95000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7C9-5EFD-4DE8-90AB-216058A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FF3-DFFD-4481-BA30-60D4004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FE1-7583-49E3-88EA-D5375A6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062-D909-436D-99B3-EDFF4A7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A0-06C7-4A7D-9A88-5EEA4D4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AAA-ED8B-4D5E-8562-B249DEFFFA86}" type="datetime">
              <a:rPr b="0" lang="en-PH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7A62-5A12-4DA0-B3EF-B6A5277DE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cnchong@adb.or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tor\My Documents\Downloads\20BB\20BB.tif"/>
          <p:cNvPicPr/>
          <p:nvPr/>
        </p:nvPicPr>
        <p:blipFill>
          <a:blip r:embed="rId1"/>
          <a:stretch/>
        </p:blipFill>
        <p:spPr>
          <a:xfrm>
            <a:off x="8077320" y="2286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0" y="2286000"/>
            <a:ext cx="236232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2362320" y="2286000"/>
            <a:ext cx="22860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762120" y="1328760"/>
            <a:ext cx="75992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EP Workshop on Off-Grid Electrification in Myanm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現場写真\L Trans Distri\L 020223 03.JPG"/>
          <p:cNvPicPr/>
          <p:nvPr/>
        </p:nvPicPr>
        <p:blipFill>
          <a:blip r:embed="rId4"/>
          <a:stretch/>
        </p:blipFill>
        <p:spPr>
          <a:xfrm>
            <a:off x="4648320" y="2286000"/>
            <a:ext cx="24224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5"/>
          <a:stretch/>
        </p:blipFill>
        <p:spPr>
          <a:xfrm>
            <a:off x="7070760" y="2286000"/>
            <a:ext cx="207324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649F-AF1C-4378-BEF7-9B896C285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762120" y="5062680"/>
            <a:ext cx="75992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B’s Energy Secto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January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58920"/>
            <a:ext cx="61722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s and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04920" y="1219320"/>
            <a:ext cx="8610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overnment commitment and government reach at villa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cent programs by MOI, DRD, MOAI, MOEP and others.  Current program by MLFDRD and regional govern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munity based organizations in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munity interest and willingness to accept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Ss are in use in several villages and help to provide a  demonstration ef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w loads and very low affordability to p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ifficult terra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access to financ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technology awareness among rural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reach of private RE suppliers at village level and after sales support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eed a road map for rural electrification including clear targets, enabling policies, incentives, models, and concessional fund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7EB8-6A4F-495E-BB73-996C28F0A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Solar Hom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568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urement contract signed on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ound 1,000 SHS will be distributed at a subsidized pri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y Phi Taw: 2 Villages, Mandalay: 11 villages, Chin: 2 vill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utput Based Aid (OBA) protocol used to promote efficiency of subsidies. Payments after delive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scale-up potential of the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2286000"/>
          <a:ext cx="6629400" cy="1979640"/>
        </p:xfrm>
        <a:graphic>
          <a:graphicData uri="http://schemas.openxmlformats.org/drawingml/2006/table">
            <a:tbl>
              <a:tblPr/>
              <a:tblGrid>
                <a:gridCol w="2209680"/>
                <a:gridCol w="2210040"/>
                <a:gridCol w="2209680"/>
              </a:tblGrid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 Price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sid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01B-825A-4AC8-BA50-FD3265431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PV Solar Mini-grid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6816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villages selected in Mandalay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liminary socioeconomic assessments carr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nder documents and tech specs under pr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ruction aimed to start by April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Sour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3657600"/>
          <a:ext cx="7192800" cy="2133720"/>
        </p:xfrm>
        <a:graphic>
          <a:graphicData uri="http://schemas.openxmlformats.org/drawingml/2006/table">
            <a:tbl>
              <a:tblPr/>
              <a:tblGrid>
                <a:gridCol w="2397240"/>
                <a:gridCol w="2639880"/>
                <a:gridCol w="21556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on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 of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on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 of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 conn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 con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e 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tion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85A-0EF9-46FD-B9D6-F4DC67B41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PV Solar Mini-grid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ach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consumption revenues will be collected by the private operator to cover for their investment and O&amp;M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 supply, 60 HHs for 5Hrs/day, 150 watts/H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ormal agreement between the village and the private operator is necessary before ADB disburs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iff structure, metering, and payment arrangements will be agreed bilaterally by the community and the operat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operator will be selected competitively among local compan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7315200" y="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inu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346-8CA2-41AF-821A-6F7F09135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Solar Lantern Charging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5238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villages identified for pilot projects in Mandalay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get to Bottom of Pyramid (poorest househol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 local business in rural off-gri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company invest in a charging station and recovers investment by renting and/or charging lant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ging fee below cost of alternative uses (e.g. cand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B subsidizes a portion of the total cost to incentivize private sector to invest and train local entrepreneurs to operate the 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 Specs and tender documents under pr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el: 50 lanterns with 5 junction box, 6hr/day, mobile charging facility, solar lanterns selling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cted implementation to start by March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C09-60BD-4A09-BF51-D42BB4046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2590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A 8657-MYA: Off-Grid Renewable Energy Demonstration Project (Phase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7BA-D2BC-4738-B43A-CCDD32630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05920"/>
            <a:ext cx="6172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Off-Grid RE Project Out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04920" y="1076400"/>
            <a:ext cx="861048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pacity Development Technical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DB approved the TA on 23 Ma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unding: US$2 million (Japan Fund for Poverty Reduction/JF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ecuting Agency (E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ry of Livestock, Fisheries and Rural (MLFRD) Development (MLFRD)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Agency (I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partment of Rural Development (D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 an off-grid renewable energy demonstration project that will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upport the design and install renewable energy systems in 25 villages; targeting the central dry zone (Mandalay, Sagaing, and Magway reg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 a geospatial least-cost energy access and investment plan for select regions an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engthen the capacity of government institutions to design and implement small-scale renewable energ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us of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obilization of consultants: January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360-C706-41B3-B4DD-C1DAEB46E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438280" y="1523520"/>
            <a:ext cx="4648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  <a:ea typeface="Arial"/>
              </a:rPr>
              <a:t>Than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r atten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further in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oon-Sik Jung, SEEN/SE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cjung@adb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A547-9F7F-429A-B655-7849191D2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920" y="588600"/>
            <a:ext cx="91695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ent Sector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280" y="1523520"/>
            <a:ext cx="807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Low electrification ratio (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Cost effective way to extend electricity supply to about 6.4 million unconnected households, ER is around 31% as of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ity shortage in dry se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Yangon required load shedding of 200 MW in summer 2013, while its peak demand growing at 13.7% annually and insufficient gas avail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igh technical and non-technical losses in transmission and distribu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27% in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Grid extension to rural areas will be expensive and could be delay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Gulim"/>
              </a:rPr>
              <a:t>Population of about 60 million with more than 70% in rural areas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Need to explore off-grid applications on a large sc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06D-5D6F-48A5-B11E-E2B06388C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920" y="284040"/>
            <a:ext cx="91695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B’s Involvement in the Energy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5333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irst-ever Sector Assessment Completed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New Energy Architecture Report: In collaboration with Accenture – 2013 (released at the World Economic Forum, Nay Pyi Taw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acilitated drafting of the Electricity Law – 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irst Investment Program Approved –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Additional Investment Programs are being develop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Ongoing technical assistance programs focussed on power sector reform, capacity development and off-grid renewable energy applic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3047760" cy="38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A6C-C9E0-41B5-882E-036F68389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52280" y="10317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B’s Ass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1941480" y="42670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f-grid Program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941480" y="33526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-grid Progra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941480" y="2438280"/>
            <a:ext cx="7736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hancing Governance Progra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470-2C16-4E59-9D2E-4382E7B8D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Enhancing Power Sector Governance Program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TA for Enhancing the Power Sector’s Legal and Regulatory Framework (TA 8469)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Upgrading the Myanmar Electricity Law (1984) and the Electricity Rules  (198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Institutional Strengthening of National Energy Management Committee in Energy  Policy and Planning (TA 835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Energy Master Plan, Energy Efficiency Policy, Renewable Energy Development Strate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Capacity Development and Institutional Support (TA 824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Power Sector Advisor to the Ministry of Electric 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Capacity Building for Project Identification Support (TA 82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Grid performance standards, Transmission and Distribution Grid Co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Financial Management Assessment of Energy Sector (TA 82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trengthening the Use of Country Safeguard Systems (TA 75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apacity building for implementing environment and social safegu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Support for Public-Private Partnership Framework Development (TA 8624)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Capacity buil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wareness of PPP project process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Safeguard Institutional Strengthening (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apacity building for comprehensive environmental quality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C92-C6D8-47DC-BCB0-64F864C5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0880" y="1125000"/>
            <a:ext cx="86551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Gulim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Distribution Improvement Project ($60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ive townships in Yangon region; four districts in Mandalay region; five districts in Sagaing region; and two townships in Magway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an agreement was signed on 28 Januar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n going bids evaluation for goods, PIC mobilized in Dec.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Gulim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Transmission Improvement Project ($80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habilitation and expansion of 66kV &amp; 230kV transmission lines and four substations in Yan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Transmission and Distribution II ($7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oject scope - T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459640" y="617220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34596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n-Gri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12E-3221-4CE8-BD18-F9188D5C0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Off-Grid Program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85800" y="1162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7200" y="1370160"/>
            <a:ext cx="876312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1 (Q4/2013 – Q3/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unterpart: Ministry of Industry (MO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ilot Regions: Mandalay Region and Chin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utpu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 off-grid energy solutions for 20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ast cost electrification plan for Mandalay reg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Investor forum in Nay Pyi Taw in March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2 ( Q2/2014 – Q2/201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unterpart: Ministry of Livestock, Fisheries and Rural  Development (MLF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verage: Mandalay, Sagaing, and Magway Reg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utpu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 off-grid energy solutions for public and community infrastructure in 25 off-grid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ast cost electrification plan, and related policy and regulatory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3 (tentative – Q3/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bine loan and grant funds (link with other energy access progra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C27A-E3F4-47FE-AA20-41B9181F2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361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posed Pilots under Phase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8F7-94D0-470D-ABCD-7C689B917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266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Guiding Principles for Phase 1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33520" y="1463760"/>
            <a:ext cx="5029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ponsive to government’s request for immediate deployment of RE based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Adopt sustainable delivery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5km from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pitalize on existing R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caled up in phase 2 &amp;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omote private sector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ring ADB experience in service delivery mode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verage ADB’s Energy for all Prog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ock taking in off-grid villages: energy poverty, affordability and willingness to pay, links to government plans, community participation and technology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103560" cy="391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39F-9B19-4109-9930-D2432EE74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ussain</dc:creator>
  <dc:description/>
  <dc:language>en-US</dc:language>
  <cp:lastModifiedBy>Choon Sik Jung</cp:lastModifiedBy>
  <dcterms:modified xsi:type="dcterms:W3CDTF">2015-01-28T04:28:38Z</dcterms:modified>
  <cp:revision>802</cp:revision>
  <dc:subject/>
  <dc:title>Slide 1</dc:title>
</cp:coreProperties>
</file>